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2388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FEA6-03C7-4274-895E-1C9C81786973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6320" y="2874600"/>
            <a:ext cx="611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900" spc="-1" strike="noStrike">
                <a:solidFill>
                  <a:srgbClr val="002395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6393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ab8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  <a:p>
            <a:pPr lvl="1" marL="788400" indent="0" algn="ctr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683280" algn="ctr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337120" indent="7603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229200" indent="73368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-152640" y="2742840"/>
            <a:ext cx="89010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férence de Territoire du 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5 décembre 2011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ésentation de 5 Contrats Locaux de Santé  à l’avis de la CT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53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instances de suivi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136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 comité de pilotage regroupant les signataires, les partenaires institutionnels, et les autres partenaires inscrits comme pilote d’une 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 comité technique regroup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référents techniques de la collectivité (ou des communes) intéressées par les axes déclinés dans le C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 référent CLS de la DT/ARS (qui appartient au pôle santé publi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représentants des différents départements de la DT intéressés par les axes (offre de soins et médico-sociale, veille et sécurité des milieu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partenaires et/ou acteurs de terrain intéressés à la déma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5881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Contrats Locaux de Santé soumis à l’avis de la Conférence de Territoir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370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5 Contrats Locaux de Santé sont présenté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mmunes et une communauté d’agglomé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oussain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gny en Ve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rc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illiers le 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munauté d’agglomération Val et For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0" algn="just">
              <a:lnSpc>
                <a:spcPct val="100000"/>
              </a:lnSpc>
              <a:spcBef>
                <a:spcPts val="249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Les communes concernée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mmunes volontaires et engagées dans une dynamique santé à des degrés div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 communes en Contrat Urbain de Cohésion Sociale, dont 2 sont en CUCS expérimental (Sarcelles et Villiers le Bel)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 4 communes présentent un indicateur de développement humain inférieur à 0,50 (s’échelonnant de 0,32 à 0,3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Une communauté d’agglomération</a:t>
            </a:r>
            <a:br>
              <a:rPr sz="3200"/>
            </a:b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Communauté d’agglomération Val et Forêt constituée de 6 communes : Saint Leu, Saint Prix, Montlignon, le Plessis Bouchard, Ermont et Eaubon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Les communes d’Ermont et d’Eaubonne se sont intéressées dès la fin de l’année 2010 à la démarche, et ont amené la communauté d’agglomération à envisager un 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Un diagnostic a donc été réalisé au cours de l’année 2011 sur la totalité du territoire de la communauté d’agglomération, qui a officiellement sollicité le DGARS pour la signature d’un 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153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Une communauté d’agglomération</a:t>
            </a:r>
            <a:br>
              <a:rPr sz="3200"/>
            </a:b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Certaines communes engagées dans une dynamique san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Des indicateurs globalement favorables, mais des difficultés particulières rencontré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601"/>
              </a:spcBef>
              <a:buClr>
                <a:srgbClr val="3333cc"/>
              </a:buClr>
              <a:buSzPct val="1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Vieillissement important de l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601"/>
              </a:spcBef>
              <a:buClr>
                <a:srgbClr val="3333cc"/>
              </a:buClr>
              <a:buSzPct val="1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Deux communes en CUCS, 1 quartier en difficulté sur la ville de St L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Mais trois des six communes seulement intéressées par les problématiques dégagées du diagnostic (Ermont, Eaubonne et Montlign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5885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Constat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global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807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 diagnostics à initier sur les communes de Sarcelles, Goussainville et Magny en Vex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 diagnostics déjà réalisés sur Villiers le Bel et la Communauté d’agglomé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e aide financière de l’ARS pour les communes n’ayant pas de diagnostic suffisant pour connaître l’état de santé de leur population attribuée à partir des 115 000 € dégagés par l’ARS en fin d’année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153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Des axes stratégiques partagé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989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s axes proposés par la collectivité et partagés, qui explorent l’ensemble du champ potentiel de l’ARS et qui répondent aux priorités déterminées par celle-ci sur les différents champs d’interv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l’exception de la communauté d’agglomération, tous les projets  comportent l ’axe spécifique santé environnement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Présentation des 5 CL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gny en Ve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illiers le 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oussain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rc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munauté d’agglomération Val et For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153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Suite de la démarche CLS dans le département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r les 4 CLS présentés à la CT du 9 novembre 2011, trois ont été signés le 2 décemb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 projets présentés à l’avis de la CT du 15 décembre, dont la signature devrait être effective à la fin de l’année 2011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’autres projets seront éventuellement présentés aux prochaines C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s diagnostics à ini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s instances de suivi à mettre 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e révision de ces contrats au moment de l’adoption définitive du 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RD</cp:lastModifiedBy>
  <cp:lastPrinted>2011-12-14T19:13:17Z</cp:lastPrinted>
  <dcterms:modified xsi:type="dcterms:W3CDTF">2011-12-15T11:03:11Z</dcterms:modified>
  <cp:revision>151</cp:revision>
  <dc:subject/>
  <dc:title>Présentation PowerPoint</dc:title>
</cp:coreProperties>
</file>